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36B2C-D8ED-4722-A057-CFCBA899F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378FE-4564-4827-97C4-780CFB87C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A2371-29F9-40E5-8BFA-8905A474E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D63E6-C91E-4514-9C76-395223D50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A4F82-2EB2-4983-B221-CDD1101DF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2B82F-CBF9-4792-BD16-4EE29BB3E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00958-1B2D-4406-93C2-2F1FCC892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5FA66-0DE9-4871-871B-98BDA8DC5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2224D-3476-49D9-8345-E1FDF4EAC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0159E-64D6-499F-A6C5-4B4D3E87D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8C30B-E770-4FFA-9A5A-CCF83CF96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78D65-B810-40DA-AB4A-0AE56DCB7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24C1B-B9E3-498F-8DE0-CFF31A2141E3}"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Фармакологија и токсикологија за стоматологију – 13</a:t>
            </a:r>
            <a:r>
              <a:rPr b="0" lang="en-US" sz="3600" spc="-1" strike="noStrike">
                <a:solidFill>
                  <a:srgbClr val="000000"/>
                </a:solidFill>
                <a:latin typeface="Comic Sans MS"/>
              </a:rPr>
              <a:t>. </a:t>
            </a:r>
            <a:r>
              <a:rPr b="0"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898989"/>
                </a:solidFill>
                <a:latin typeface="Comic Sans MS"/>
              </a:rPr>
              <a:t>проф. др Слободан Јанковић</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Блокатори канала за калцијум – механизам дејства</a:t>
            </a:r>
            <a:endParaRPr b="0" lang="en-US" sz="3200" spc="-1" strike="noStrike">
              <a:solidFill>
                <a:srgbClr val="000000"/>
              </a:solidFill>
              <a:latin typeface="Comic Sans MS"/>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Калцијум је неопходан за контракцију глатких мишићних ћелија и ћелија миокарда. У ове ћелије Са++ улази кроз протеинске структуре у мембрани које називамо каналима за калцијум. Највећи број канала за калцијум се активира (отвара) онда када се мембрана ћелије деполарише. Зато за њих кажемо да су волтажно-зависни канали. </a:t>
            </a:r>
            <a:endParaRPr b="0" lang="en-US" sz="1600" spc="-1" strike="noStrike">
              <a:solidFill>
                <a:srgbClr val="000000"/>
              </a:solidFill>
              <a:latin typeface="Comic Sans MS"/>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Блокатори калцијумских канала прво пролазе кроз мембрану ћелије а затим се везују са цитоплазматске стране канала и блокирају их. Постоје три места за везивање блокатора, која се означавају римским бројевима: I место, где се везују 1,4-дихидропиридини, II место, где се везују верапамил и њему слични лекови, и III место, где се везује дилтиазем. Због различитих места везивања, поједини блокатори калцијумских канала се међусобно разликују по механизму деловања и крајњим дејствима у организму.</a:t>
            </a:r>
            <a:endParaRPr b="0" lang="en-US" sz="1600" spc="-1" strike="noStrike">
              <a:solidFill>
                <a:srgbClr val="000000"/>
              </a:solidFill>
              <a:latin typeface="Comic Sans MS"/>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Дејство блокатора канала за калцијум се појачава ако се мишићне ћелије чешће стимулишу, па се такав вид блокаде назива "блокада зависна од употребе". Разлог за такву појаву лежи у лакшем везивању ових лекова за калцијумске канале који су или отворени, или инактивирани (стање које непосредно претходи затварању канала).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Вежбе</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ИНТЕРАКЦИЈЕ АНТИАГРЕГАЦИОНИХ ЛЕКОВА СА ДРУГИМ ЛЕКОВИМА КОЈИ СЕ КОРИСТЕ У СТОМАТОЛОГИЈИ</a:t>
            </a:r>
            <a:endParaRPr b="0" lang="en-US" sz="2000" spc="-1" strike="noStrike">
              <a:solidFill>
                <a:srgbClr val="000000"/>
              </a:solidFill>
              <a:latin typeface="Comic Sans MS"/>
            </a:endParaRPr>
          </a:p>
        </p:txBody>
      </p:sp>
      <p:sp>
        <p:nvSpPr>
          <p:cNvPr id="63" name="Rectangle 2"/>
          <p:cNvSpPr/>
          <p:nvPr/>
        </p:nvSpPr>
        <p:spPr>
          <a:xfrm>
            <a:off x="1357200" y="2428920"/>
            <a:ext cx="64296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Мада се у литератури може наћи велики број описаних интеракција антиагрегационих лекова са другим лековима, само мали број интеракција има клинички значај, тј. утиче на даље лечење пацијента или погоршава његово здравствено стањ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	</a:t>
            </a:r>
            <a:r>
              <a:rPr b="1" lang="sr-CS" sz="1800" spc="-1" strike="noStrike">
                <a:solidFill>
                  <a:srgbClr val="000000"/>
                </a:solidFill>
                <a:latin typeface="Arial"/>
              </a:rPr>
              <a:t>Аспирин </a:t>
            </a:r>
            <a:r>
              <a:rPr b="0" lang="sr-CS" sz="1800" spc="-1" strike="noStrike">
                <a:solidFill>
                  <a:srgbClr val="000000"/>
                </a:solidFill>
                <a:latin typeface="Arial"/>
              </a:rPr>
              <a:t>интерагује са оралним антикоагулантним лековима или хепарином, доводећи до даљег слабљења згрушавања крви, тако да пацијенти могу доживети озбиљно крварење из усне дупље, често после неке интервенције. Да се то не би десило, треба избегавати истовремену примену аспирина са оралним коагулансима или хепарин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ИНТЕРАКЦИЈЕ АНТИАГРЕГАЦИОНИХ ЛЕКОВА СА ДРУГИМ ЛЕКОВИМА КОЈИ СЕ КОРИСТЕ У СТОМАТОЛОГИЈИ</a:t>
            </a:r>
            <a:endParaRPr b="0" lang="en-US" sz="2000" spc="-1" strike="noStrike">
              <a:solidFill>
                <a:srgbClr val="000000"/>
              </a:solidFill>
              <a:latin typeface="Comic Sans MS"/>
            </a:endParaRPr>
          </a:p>
        </p:txBody>
      </p:sp>
      <p:sp>
        <p:nvSpPr>
          <p:cNvPr id="65" name="Rectangle 2"/>
          <p:cNvSpPr/>
          <p:nvPr/>
        </p:nvSpPr>
        <p:spPr>
          <a:xfrm>
            <a:off x="428760" y="1720800"/>
            <a:ext cx="77151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2000" spc="-1" strike="noStrike">
                <a:solidFill>
                  <a:srgbClr val="000000"/>
                </a:solidFill>
                <a:latin typeface="Arial"/>
              </a:rPr>
              <a:t>Ако се аспирин примени заједно са антидепресивима блокаторима преузимања серотонина, долази до појачања његовог антиагрегационог дејства и крварењ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sr-CS" sz="2000" spc="-1" strike="noStrike">
                <a:solidFill>
                  <a:srgbClr val="000000"/>
                </a:solidFill>
                <a:latin typeface="Arial"/>
              </a:rPr>
              <a:t>Примену аспирина такође треба избегавати код пацијената који већ користе </a:t>
            </a:r>
            <a:r>
              <a:rPr b="0" i="1" lang="sr-CS" sz="2000" spc="-1" strike="noStrike">
                <a:solidFill>
                  <a:srgbClr val="000000"/>
                </a:solidFill>
                <a:latin typeface="Arial"/>
              </a:rPr>
              <a:t>нестероидне антиинфламаторне лекове (углавном ради њиховог аналгетског ефекта)</a:t>
            </a:r>
            <a:r>
              <a:rPr b="0" lang="sr-CS" sz="2000" spc="-1" strike="noStrike">
                <a:solidFill>
                  <a:srgbClr val="000000"/>
                </a:solidFill>
                <a:latin typeface="Arial"/>
              </a:rPr>
              <a:t>, јер се тада нежељена дејства аспирина појачавају, посебно на гастроинтестиналном тракт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ИНТЕРАКЦИЈЕ АНТИАГРЕГАЦИОНИХ ЛЕКОВА СА ДРУГИМ ЛЕКОВИМА КОЈИ СЕ КОРИСТЕ У СТОМАТОЛОГИЈИ</a:t>
            </a:r>
            <a:endParaRPr b="0" lang="en-US" sz="2000" spc="-1" strike="noStrike">
              <a:solidFill>
                <a:srgbClr val="000000"/>
              </a:solidFill>
              <a:latin typeface="Comic Sans MS"/>
            </a:endParaRPr>
          </a:p>
        </p:txBody>
      </p:sp>
      <p:sp>
        <p:nvSpPr>
          <p:cNvPr id="67" name="Rectangle 3"/>
          <p:cNvSpPr/>
          <p:nvPr/>
        </p:nvSpPr>
        <p:spPr>
          <a:xfrm>
            <a:off x="1571760" y="2274840"/>
            <a:ext cx="52862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лично аспирину, </a:t>
            </a:r>
            <a:r>
              <a:rPr b="1" lang="sr-CS" sz="1800" spc="-1" strike="noStrike">
                <a:solidFill>
                  <a:srgbClr val="000000"/>
                </a:solidFill>
                <a:latin typeface="Arial"/>
              </a:rPr>
              <a:t>клопидогрел </a:t>
            </a:r>
            <a:r>
              <a:rPr b="0" lang="sr-CS" sz="1800" spc="-1" strike="noStrike">
                <a:solidFill>
                  <a:srgbClr val="000000"/>
                </a:solidFill>
                <a:latin typeface="Arial"/>
              </a:rPr>
              <a:t>због свог антиагрегационог ефекта интерагује са оралним антикоагулантним лековима или хепарином, доводећи до даљег слабљења згрушавања крви, тако да се после неке интервенције у усној дупљи може јавити крварењ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ИНТЕРАКЦИЈЕ АНТИАГРЕГАЦИОНИХ ЛЕКОВА СА ДРУГИМ ЛЕКОВИМА КОЈИ СЕ КОРИСТЕ У СТОМАТОЛОГИЈИ</a:t>
            </a:r>
            <a:endParaRPr b="0" lang="en-US" sz="2000" spc="-1" strike="noStrike">
              <a:solidFill>
                <a:srgbClr val="000000"/>
              </a:solidFill>
              <a:latin typeface="Comic Sans MS"/>
            </a:endParaRPr>
          </a:p>
        </p:txBody>
      </p:sp>
      <p:sp>
        <p:nvSpPr>
          <p:cNvPr id="69" name="Rectangle 3"/>
          <p:cNvSpPr/>
          <p:nvPr/>
        </p:nvSpPr>
        <p:spPr>
          <a:xfrm>
            <a:off x="1571760" y="2214720"/>
            <a:ext cx="60004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Читав низ лекова слаби антиагрегациони ефекат клопидогрела, углавном због уплитања у његов метаболизам: карбамазепин, ципрофлоксацин, еритромицин, есомепразол и омепразол, флуконазол, флуоксетин и флувоксами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Осим карбамазепина, који ефекат клопидогрела смањује због убрзаног метаболизма и отклањања лека из организма, остали лекови инхибирају ензиме који врше метаболизам клопидогрела и теме ометају стварање </a:t>
            </a:r>
            <a:r>
              <a:rPr b="1" i="1" lang="sr-CS" sz="1800" spc="-1" strike="noStrike">
                <a:solidFill>
                  <a:srgbClr val="000000"/>
                </a:solidFill>
                <a:latin typeface="Arial"/>
              </a:rPr>
              <a:t>активног метаболита</a:t>
            </a:r>
            <a:r>
              <a:rPr b="0" lang="sr-CS" sz="1800" spc="-1" strike="noStrike">
                <a:solidFill>
                  <a:srgbClr val="000000"/>
                </a:solidFill>
                <a:latin typeface="Arial"/>
              </a:rPr>
              <a:t>, који заправо има антиагрегациони ефека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НЕЖЕЉЕНА ДЕЈСТВА АНТИАГРЕГАЦИОНИХ ЛЕКОВА</a:t>
            </a:r>
            <a:endParaRPr b="0" lang="en-US" sz="2000" spc="-1" strike="noStrike">
              <a:solidFill>
                <a:srgbClr val="000000"/>
              </a:solidFill>
              <a:latin typeface="Comic Sans MS"/>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ПОЈАВА АКУТНИХ УЛЦЕРАЦИЈА СЛУЗОКОЖ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КРВАРЕЊЕ ПОСЛЕ ИНТЕРВЕНЦИЈ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БУЛОЗНЕ МАНИФЕСТАЦИЈЕ СТИВЕН-ЏОНСОНОВОГ СИНДРОМ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Бета-блокатори - индикације</a:t>
            </a:r>
            <a:endParaRPr b="0" lang="en-US" sz="4400" spc="-1" strike="noStrike">
              <a:solidFill>
                <a:srgbClr val="000000"/>
              </a:solidFill>
              <a:latin typeface="Comic Sans MS"/>
            </a:endParaRPr>
          </a:p>
        </p:txBody>
      </p:sp>
      <p:sp>
        <p:nvSpPr>
          <p:cNvPr id="73" name=""/>
          <p:cNvSpPr txBox="1"/>
          <p:nvPr/>
        </p:nvSpPr>
        <p:spPr>
          <a:xfrm>
            <a:off x="457200" y="1600200"/>
            <a:ext cx="8229600" cy="49975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Бета блокатори се користе за лечење хипертензије код млађих особа са здравим миокардом, за лечење ангине пекторис (јер смањују потрошњу кисеоника), за сузбијање екстрасистола или пароксизмалних тахикардија и за превенцију исхемије код болесника који су претрпели инфаркт миокарда. </a:t>
            </a:r>
            <a:endParaRPr b="0" lang="en-US" sz="1800" spc="-1" strike="noStrike">
              <a:solidFill>
                <a:srgbClr val="000000"/>
              </a:solidFill>
              <a:latin typeface="Comic Sans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ропранолол добро продире у ЦНС и тамо стабилизује мембрански потенцијал неурона, што се у пракси показало врло корисним у лечењу есенцијалног тремора. У принципу их не треба давати заједно са блокаторима калцијумских канала јер могу довести до блока спровођења у срцу (А-В блок), посебно ако се нпр. верапамил примењује интравенски. </a:t>
            </a:r>
            <a:endParaRPr b="0" lang="en-US" sz="1800" spc="-1" strike="noStrike">
              <a:solidFill>
                <a:srgbClr val="000000"/>
              </a:solidFill>
              <a:latin typeface="Comic Sans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осебно место бета-блокатори имају у превенцији поновне појаве инфаркта миокарда. </a:t>
            </a:r>
            <a:endParaRPr b="0" lang="en-US" sz="1800" spc="-1" strike="noStrike">
              <a:solidFill>
                <a:srgbClr val="000000"/>
              </a:solidFill>
              <a:latin typeface="Comic Sans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Бета-блокатори се користе и за лечење срчане инсуфицијенције, јер смањују хиперактивност симпатичког нервног система. За ту индикацију се до сада највише користе метопролол, бисопролол и карведилол.</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едавањ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грегација тромбоцита</a:t>
            </a:r>
            <a:endParaRPr b="0" lang="en-US" sz="4400" spc="-1" strike="noStrike">
              <a:solidFill>
                <a:srgbClr val="000000"/>
              </a:solidFill>
              <a:latin typeface="Comic Sans MS"/>
            </a:endParaRPr>
          </a:p>
        </p:txBody>
      </p:sp>
      <p:sp>
        <p:nvSpPr>
          <p:cNvPr id="45" name="Rectangle 2"/>
          <p:cNvSpPr/>
          <p:nvPr/>
        </p:nvSpPr>
        <p:spPr>
          <a:xfrm>
            <a:off x="642960" y="2286000"/>
            <a:ext cx="7786800" cy="287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1800" spc="-1" strike="noStrike">
                <a:solidFill>
                  <a:srgbClr val="000000"/>
                </a:solidFill>
                <a:latin typeface="Arial"/>
              </a:rPr>
              <a:t>У артеријама, где је струја крви веома брза, настају бели тромби сачињени само од агрегованих тромбоцита. Тромби обично настају на местима где дође до руптуре атероматозног плака, тј. где прсне ендотел и оголи се интима. Агрегацију тромбоцита помажу и убрзавају тромбоксан А</a:t>
            </a:r>
            <a:r>
              <a:rPr b="0" lang="en-US" sz="1800" spc="-1" strike="noStrike" baseline="-25000">
                <a:solidFill>
                  <a:srgbClr val="000000"/>
                </a:solidFill>
                <a:latin typeface="Arial"/>
              </a:rPr>
              <a:t>2</a:t>
            </a:r>
            <a:r>
              <a:rPr b="0" lang="en-US" sz="1800" spc="-1" strike="noStrike">
                <a:solidFill>
                  <a:srgbClr val="000000"/>
                </a:solidFill>
                <a:latin typeface="Arial"/>
              </a:rPr>
              <a:t> и аденозин дифосфат (АДП), а успорава је циклични аденозин монофосфат (цАМП). Све ове супстанце су продукти самих тромбоцита. Сам чин агрегације се одвија везивањем фибриногена једним крајем за гликопротеинске IIb/IIIa рецепторе на тромбоцитима, а другим крајем за Фон Вилебрандов фактор у огољеној интими крвног суд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нтиагрегациони лекови</a:t>
            </a:r>
            <a:endParaRPr b="0" lang="en-US" sz="4400" spc="-1" strike="noStrike">
              <a:solidFill>
                <a:srgbClr val="000000"/>
              </a:solidFill>
              <a:latin typeface="Comic Sans MS"/>
            </a:endParaRPr>
          </a:p>
        </p:txBody>
      </p:sp>
      <p:sp>
        <p:nvSpPr>
          <p:cNvPr id="47" name="Rectangle 2"/>
          <p:cNvSpPr/>
          <p:nvPr/>
        </p:nvSpPr>
        <p:spPr>
          <a:xfrm>
            <a:off x="214200" y="2857680"/>
            <a:ext cx="85010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Агрегација тромбоцита се може смањити леком који инхибира синтезу простагландина у тромбоцитима (ацетилсалицилна киселина), леком који повећава концентрацију цАМП-а у тромбоцитима (дипиридамол), леком који блокира рецепторе за АДП-а (тиклопидин и клопидогрел) или лековима који се везују за </a:t>
            </a:r>
            <a:r>
              <a:rPr b="0" lang="en-US" sz="1800" spc="-1" strike="noStrike">
                <a:solidFill>
                  <a:srgbClr val="000000"/>
                </a:solidFill>
                <a:latin typeface="Arial"/>
              </a:rPr>
              <a:t>IIb</a:t>
            </a:r>
            <a:r>
              <a:rPr b="0" lang="sr-CS" sz="1800" spc="-1" strike="noStrike">
                <a:solidFill>
                  <a:srgbClr val="000000"/>
                </a:solidFill>
                <a:latin typeface="Arial"/>
              </a:rPr>
              <a:t>/</a:t>
            </a:r>
            <a:r>
              <a:rPr b="0" lang="en-US" sz="1800" spc="-1" strike="noStrike">
                <a:solidFill>
                  <a:srgbClr val="000000"/>
                </a:solidFill>
                <a:latin typeface="Arial"/>
              </a:rPr>
              <a:t>IIIa</a:t>
            </a:r>
            <a:r>
              <a:rPr b="0" lang="sr-CS" sz="1800" spc="-1" strike="noStrike">
                <a:solidFill>
                  <a:srgbClr val="000000"/>
                </a:solidFill>
                <a:latin typeface="Arial"/>
              </a:rPr>
              <a:t> рецепторе на тромбоцитима и инактивирају их (абциксимаб, ептифибатид и тирофиба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ви лекови се користе пре свега профилактички, за спречавање настанка тромбозе коронарних артерија (превенција инфаркта миокарда) и церебралних артерија (превенција инфаркта мозга). Такође спречавају тромбозу после перкутаних интервенција на коронарним артеријам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нтиагрегациони лекови</a:t>
            </a:r>
            <a:endParaRPr b="0" lang="en-US" sz="4400" spc="-1" strike="noStrike">
              <a:solidFill>
                <a:srgbClr val="000000"/>
              </a:solidFill>
              <a:latin typeface="Comic Sans MS"/>
            </a:endParaRPr>
          </a:p>
        </p:txBody>
      </p:sp>
      <p:sp>
        <p:nvSpPr>
          <p:cNvPr id="49" name="Rectangle 2"/>
          <p:cNvSpPr/>
          <p:nvPr/>
        </p:nvSpPr>
        <p:spPr>
          <a:xfrm>
            <a:off x="500040" y="2357280"/>
            <a:ext cx="82868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Ацетилсалицилна киселина</a:t>
            </a:r>
            <a:r>
              <a:rPr b="0" lang="sr-CS" sz="1800" spc="-1" strike="noStrike">
                <a:solidFill>
                  <a:srgbClr val="000000"/>
                </a:solidFill>
                <a:latin typeface="Arial"/>
              </a:rPr>
              <a:t> антиагрегационо дејство испољава само у малим дозама (100 мг/дан или 300 мг сваки трећи дан) јер веће дозе инхибирају и стварање простагландина ендотела, простациклина, (</a:t>
            </a:r>
            <a:r>
              <a:rPr b="0" lang="en-US" sz="1800" spc="-1" strike="noStrike">
                <a:solidFill>
                  <a:srgbClr val="000000"/>
                </a:solidFill>
                <a:latin typeface="Arial"/>
              </a:rPr>
              <a:t>PG I</a:t>
            </a:r>
            <a:r>
              <a:rPr b="0" lang="sr-CS" sz="1800" spc="-1" strike="noStrike">
                <a:solidFill>
                  <a:srgbClr val="000000"/>
                </a:solidFill>
                <a:latin typeface="Arial"/>
              </a:rPr>
              <a:t>) који иначе има антиагрегационо и вазодилататорно деловањ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фикасност аспирина, дипиридамола, клопидогрела и тиклопидина је слична, али тиклопидин има најозбиљнија нежељена дејства: мучнина и дијареја код 20% болесника, хеморагија код 5% и неутропенија код 1% болесника. Зато се </a:t>
            </a:r>
            <a:r>
              <a:rPr b="1" i="1" lang="en-US" sz="1800" spc="-1" strike="noStrike">
                <a:solidFill>
                  <a:srgbClr val="000000"/>
                </a:solidFill>
                <a:latin typeface="Arial"/>
              </a:rPr>
              <a:t>тиклопидин</a:t>
            </a:r>
            <a:r>
              <a:rPr b="0" lang="en-US" sz="1800" spc="-1" strike="noStrike">
                <a:solidFill>
                  <a:srgbClr val="000000"/>
                </a:solidFill>
                <a:latin typeface="Arial"/>
              </a:rPr>
              <a:t> користи обично код болесника који не могу да толеришу аспирин (преосетљивост, бронхијална астма и др), у дози од 250 мг/12 часова, орално. Тиклопидин се данас користи веома често за превенцију тромбозе код пацијената код којих је уграђен коронарни стент. Однедавно постоји и алтернатива за тиклопидин, која има мање нежељених ефеката а једноставније се дозира. То је лек </a:t>
            </a:r>
            <a:r>
              <a:rPr b="1" i="1" lang="en-US" sz="1800" spc="-1" strike="noStrike">
                <a:solidFill>
                  <a:srgbClr val="000000"/>
                </a:solidFill>
                <a:latin typeface="Arial"/>
              </a:rPr>
              <a:t>клопидогрел</a:t>
            </a:r>
            <a:r>
              <a:rPr b="0" lang="en-US" sz="1800" spc="-1" strike="noStrike">
                <a:solidFill>
                  <a:srgbClr val="000000"/>
                </a:solidFill>
                <a:latin typeface="Arial"/>
              </a:rPr>
              <a:t>, који такође инхибира везивање АДП-а за рецепторе на тромбоцитима. Примењује се само једном дневно, у оралној дози од 75 м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Дипиридамол</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51" name="Rectangle 2"/>
          <p:cNvSpPr/>
          <p:nvPr/>
        </p:nvSpPr>
        <p:spPr>
          <a:xfrm>
            <a:off x="571680" y="1720800"/>
            <a:ext cx="79293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2000" spc="-1" strike="noStrike">
                <a:solidFill>
                  <a:srgbClr val="000000"/>
                </a:solidFill>
                <a:latin typeface="Arial"/>
              </a:rPr>
              <a:t>К</a:t>
            </a:r>
            <a:r>
              <a:rPr b="0" lang="en-US" sz="2000" spc="-1" strike="noStrike">
                <a:solidFill>
                  <a:srgbClr val="000000"/>
                </a:solidFill>
                <a:latin typeface="Arial"/>
              </a:rPr>
              <a:t>ористи</a:t>
            </a:r>
            <a:r>
              <a:rPr b="0" lang="sr-CS" sz="2000" spc="-1" strike="noStrike">
                <a:solidFill>
                  <a:srgbClr val="000000"/>
                </a:solidFill>
                <a:latin typeface="Arial"/>
              </a:rPr>
              <a:t> се</a:t>
            </a:r>
            <a:r>
              <a:rPr b="0" lang="en-US" sz="2000" spc="-1" strike="noStrike">
                <a:solidFill>
                  <a:srgbClr val="000000"/>
                </a:solidFill>
                <a:latin typeface="Arial"/>
              </a:rPr>
              <a:t> као додатак оралним антикоагулантним лековима, када они не могу сами да контролишу тромботичке процесе у организму (нпр. код пацијената са вештачким валвулама, у дози од 75 мг/8 часова, орално). Такође се користи у комбинацији са ацетилсалицилном киселином у секундарној превенцији тромбозе мозга (шлога). Нежељена дејства дипиридамола су: конфузија, болови у трбуху и главобољ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бциксимаб</a:t>
            </a:r>
            <a:endParaRPr b="0" lang="en-US" sz="4400" spc="-1" strike="noStrike">
              <a:solidFill>
                <a:srgbClr val="000000"/>
              </a:solidFill>
              <a:latin typeface="Comic Sans MS"/>
            </a:endParaRPr>
          </a:p>
        </p:txBody>
      </p:sp>
      <p:sp>
        <p:nvSpPr>
          <p:cNvPr id="53" name="Rectangle 2"/>
          <p:cNvSpPr/>
          <p:nvPr/>
        </p:nvSpPr>
        <p:spPr>
          <a:xfrm>
            <a:off x="571680" y="2286000"/>
            <a:ext cx="8001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Моноклонско антитело </a:t>
            </a:r>
            <a:r>
              <a:rPr b="1" i="1" lang="en-US" sz="2000" spc="-1" strike="noStrike">
                <a:solidFill>
                  <a:srgbClr val="000000"/>
                </a:solidFill>
                <a:latin typeface="Arial"/>
              </a:rPr>
              <a:t>абциксимаб</a:t>
            </a:r>
            <a:r>
              <a:rPr b="0" lang="en-US" sz="2000" spc="-1" strike="noStrike">
                <a:solidFill>
                  <a:srgbClr val="000000"/>
                </a:solidFill>
                <a:latin typeface="Arial"/>
              </a:rPr>
              <a:t> се везује за тромбоците и спречава њихову агрегацију. Користи се само у једној интравенској дози, искључиво за превенцију тромбозе коронарних артерија после перкутане транслуминалне ангиопластике или уградње стента. Тирофибан (мали, не-пептидни молекул) и ептифибатид (циклични пептид) се такође дају интравенски, у истим индикацијама као абциксима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Нежељена дејства аспирина</a:t>
            </a:r>
            <a:endParaRPr b="0" lang="en-US" sz="4400" spc="-1" strike="noStrike">
              <a:solidFill>
                <a:srgbClr val="000000"/>
              </a:solidFill>
              <a:latin typeface="Comic Sans MS"/>
            </a:endParaRPr>
          </a:p>
        </p:txBody>
      </p:sp>
      <p:sp>
        <p:nvSpPr>
          <p:cNvPr id="55" name="Rectangle 1"/>
          <p:cNvSpPr/>
          <p:nvPr/>
        </p:nvSpPr>
        <p:spPr>
          <a:xfrm>
            <a:off x="214200" y="1282320"/>
            <a:ext cx="8786880" cy="533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ерозивн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гастритис</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рварењем</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еко</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толиц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због</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локад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интез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стагланд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Е</a:t>
            </a:r>
            <a:r>
              <a:rPr b="0" lang="sr-CS" sz="2000" spc="-1" strike="noStrike" baseline="-30000">
                <a:solidFill>
                  <a:srgbClr val="000000"/>
                </a:solidFill>
                <a:latin typeface="Dutch"/>
                <a:ea typeface="Times New Roman"/>
              </a:rPr>
              <a:t>1</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ј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одржав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обар</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ток</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рв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роз</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лузокожу</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мал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оз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пир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огоршавај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гихт</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р</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отежавај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злучивањ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мокраћн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иселин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убрегу</a:t>
            </a:r>
            <a:r>
              <a:rPr b="0" lang="sr-CS"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Велике</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дозе</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парадоксално</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пове</a:t>
            </a:r>
            <a:r>
              <a:rPr b="0" lang="sr-CS" sz="2000" spc="-1" strike="noStrike">
                <a:solidFill>
                  <a:srgbClr val="000000"/>
                </a:solidFill>
                <a:latin typeface="Times New Roman"/>
                <a:ea typeface="Times New Roman"/>
              </a:rPr>
              <a:t>ћ</a:t>
            </a:r>
            <a:r>
              <a:rPr b="0" lang="pt-BR" sz="2000" spc="-1" strike="noStrike">
                <a:solidFill>
                  <a:srgbClr val="000000"/>
                </a:solidFill>
                <a:latin typeface="Times New Roman"/>
                <a:ea typeface="Times New Roman"/>
              </a:rPr>
              <a:t>авају</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излу</a:t>
            </a:r>
            <a:r>
              <a:rPr b="0" lang="sr-CS" sz="2000" spc="-1" strike="noStrike">
                <a:solidFill>
                  <a:srgbClr val="000000"/>
                </a:solidFill>
                <a:latin typeface="Times New Roman"/>
                <a:ea typeface="Times New Roman"/>
              </a:rPr>
              <a:t>ч</a:t>
            </a:r>
            <a:r>
              <a:rPr b="0" lang="pt-BR" sz="2000" spc="-1" strike="noStrike">
                <a:solidFill>
                  <a:srgbClr val="000000"/>
                </a:solidFill>
                <a:latin typeface="Times New Roman"/>
                <a:ea typeface="Times New Roman"/>
              </a:rPr>
              <a:t>ивање</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мокра</a:t>
            </a:r>
            <a:r>
              <a:rPr b="0" lang="sr-CS" sz="2000" spc="-1" strike="noStrike">
                <a:solidFill>
                  <a:srgbClr val="000000"/>
                </a:solidFill>
                <a:latin typeface="Times New Roman"/>
                <a:ea typeface="Times New Roman"/>
              </a:rPr>
              <a:t>ћ</a:t>
            </a:r>
            <a:r>
              <a:rPr b="0" lang="pt-BR" sz="2000" spc="-1" strike="noStrike">
                <a:solidFill>
                  <a:srgbClr val="000000"/>
                </a:solidFill>
                <a:latin typeface="Times New Roman"/>
                <a:ea typeface="Times New Roman"/>
              </a:rPr>
              <a:t>не</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киселине</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огоршањ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функци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убрег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р</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стагландин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отребн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з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регулациј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ток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рв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р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убрег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аћено</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задржавањем</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течности</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код</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мал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ец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пирин</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мож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зазват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Рејов</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индром</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енцефалопатиј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нсуфицијенциј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тр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ко</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имен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ток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нек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вирусн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нфекци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нфлуенц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овчи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огињ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Зато</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име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пир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д</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ец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млађ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од</a:t>
            </a:r>
            <a:r>
              <a:rPr b="0" lang="sr-CS" sz="2000" spc="-1" strike="noStrike">
                <a:solidFill>
                  <a:srgbClr val="000000"/>
                </a:solidFill>
                <a:latin typeface="Dutch"/>
                <a:ea typeface="Times New Roman"/>
              </a:rPr>
              <a:t> 8 </a:t>
            </a:r>
            <a:r>
              <a:rPr b="0" lang="sr-CS" sz="2000" spc="-1" strike="noStrike">
                <a:solidFill>
                  <a:srgbClr val="000000"/>
                </a:solidFill>
                <a:latin typeface="Times New Roman"/>
                <a:ea typeface="Times New Roman"/>
              </a:rPr>
              <a:t>год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д</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тари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ец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вирусним</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нфекцијам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нтраиндикована</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огоршањ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тм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р</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след</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локад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интез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стагланд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овећав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интез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леукотрие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главних</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ронхоконстриктор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тми</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ако се ови лекови примене код трудница у последњем тромесечју трудноће, могу одложити почетак порођаја и повећавају ризик од мртворођености; деца која се роде имају ниску тежину на рођењу и већи ризик од интракранијалних крварења</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НИТРАТИ – механизам дејства</a:t>
            </a:r>
            <a:endParaRPr b="0" lang="en-US" sz="4400" spc="-1" strike="noStrike">
              <a:solidFill>
                <a:srgbClr val="000000"/>
              </a:solidFill>
              <a:latin typeface="Comic Sans MS"/>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omic Sans MS"/>
              </a:rPr>
              <a:t>Нитрати су лекови који у свом молекулу имају нитратну групу (</a:t>
            </a:r>
            <a:r>
              <a:rPr b="0" lang="en-US" sz="2000" spc="-1" strike="noStrike">
                <a:solidFill>
                  <a:srgbClr val="000000"/>
                </a:solidFill>
                <a:latin typeface="Comic Sans MS"/>
              </a:rPr>
              <a:t>N</a:t>
            </a:r>
            <a:r>
              <a:rPr b="0" lang="sr-RS" sz="2000" spc="-1" strike="noStrike">
                <a:solidFill>
                  <a:srgbClr val="000000"/>
                </a:solidFill>
                <a:latin typeface="Comic Sans MS"/>
              </a:rPr>
              <a:t>О3). После везивања нитрата за њихов рецептор, сулфхидрилне групе рецептора редукују нитрат у нитрит и доводе до ослобађања азот-моноксида (</a:t>
            </a:r>
            <a:r>
              <a:rPr b="0" lang="en-US" sz="2000" spc="-1" strike="noStrike">
                <a:solidFill>
                  <a:srgbClr val="000000"/>
                </a:solidFill>
                <a:latin typeface="Comic Sans MS"/>
              </a:rPr>
              <a:t>N</a:t>
            </a:r>
            <a:r>
              <a:rPr b="0" lang="sr-RS" sz="2000" spc="-1" strike="noStrike">
                <a:solidFill>
                  <a:srgbClr val="000000"/>
                </a:solidFill>
                <a:latin typeface="Comic Sans MS"/>
              </a:rPr>
              <a:t>О), који активира гуанилат-циклазу, доводи до нагомилавања цикличног гуано-зин-монофосфата и релаксације глатких мишићних ћелија. Сматра се да циклични гуанозин монофосфат доводи до релаксације због инхибиције ослобађања калцијума из саркоплазматског ретикулума и инхибиције уласка калцијума у ћелију кроз Л-тип калцијумских канала у ћелијској мембрани. Данас се највише од нитрата у клиничкој пракси користе нитро-глицерол, пентаеритритол-тетранитрат, изосорбид моно- и ди-нитрат.</a:t>
            </a:r>
            <a:endParaRPr b="0" lang="en-US" sz="2000" spc="-1" strike="noStrike">
              <a:solidFill>
                <a:srgbClr val="000000"/>
              </a:solidFill>
              <a:latin typeface="Comic Sans MS"/>
            </a:endParaRPr>
          </a:p>
        </p:txBody>
      </p:sp>
      <p:sp>
        <p:nvSpPr>
          <p:cNvPr id="58" name="TextBox 2"/>
          <p:cNvSpPr/>
          <p:nvPr/>
        </p:nvSpPr>
        <p:spPr>
          <a:xfrm>
            <a:off x="900000" y="20606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5-08-02T11:39:43Z</dcterms:modified>
  <cp:revision>206</cp:revision>
  <dc:subject/>
  <dc:title>Slide 1</dc:title>
</cp:coreProperties>
</file>